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771-DB29-4F62-A250-81E12389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6BA-691B-4511-A997-789156BB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806-945D-4F80-8CAC-26C66055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22A-9BED-4F06-AAC4-1AEAC674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8E6-F449-44C9-BA32-9FD4F72E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998-D9A3-4D14-8353-F59BE181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018-BB5D-4EE2-801E-841F21A6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85B-925F-4C4B-BDD8-0CB07094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0A6-2B4B-47D2-B596-045ABD74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7B1-871A-461A-8729-2DB409CE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5B3-0786-4F7C-8700-B7020E3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6A5-449C-484C-9243-251FE52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CC9E-C0A5-4F5D-9226-B8E75E9D20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odulo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 fase de rehabil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ármacos para espasti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Vía or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enzodiacep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aclofe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izanid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Inyectad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xina botulín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Administración intratec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También medios físicos: </a:t>
            </a: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estimulación eléctrica o ultrasonidos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Consejos para la rehabilitación o convivencia con el paciente afás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i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lteraciones del lenguaje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fas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lteraciones del habl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isart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ingún sonido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ut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ficultad para escribir: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graf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ficultad para leer: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lex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fas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tora o no fl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paciente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ntiende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as palabras que se le dic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incapaz de emitir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ningún lenguaje adecu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ueden mantener la capacidad de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repetir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las palabr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ueden decir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palabra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de forma espontánea o tras ser provocados que pueden no tener un claro objetivo de transmisión de inform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Afasia nominal: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 el paciente no encuentra el nombre de algunos de los objetos que quiere mencion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sitiva o fl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fundamental radica en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capacidad para entende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lengu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olamente verbal sino también gestual o esc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nguaje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ructuralmente bien organiza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iti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ponde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las preguntas que se le ha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sar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ficultad en la articulación o en la modulación de las pala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r debilidad de los músculos de la mitad de la c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or dificultad en la coordinación de é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up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La recuperación de las afasias depende de la extensión de la lesión y del tipo del trastorno del lenguaje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Las afasias motoras tienen mejor pronóstico que las fluentes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Los trastornos del lenguaje son atendidos por los logopedas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100" spc="-1" strike="noStrike">
                <a:solidFill>
                  <a:srgbClr val="000000"/>
                </a:solidFill>
                <a:latin typeface="Arial"/>
              </a:rPr>
              <a:t>Comunicación gestua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Tras un ictus se retiene la capacidad de comprender gestos de preocupación o tristeza excepto en los pacientes con bajo nivel de conciencia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Incluso en los pacientes con alteración grave del lenguaje debe evitarse mostrar caras de preocupación o disgusto ante el pacie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vivencia con un paciente afás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tilizaremos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rases sencilla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simples y cort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blaremos en un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tono de voz normal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sin chill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Facilitarem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la respuesta, dándole varias op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ocuraremos que tome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ecisione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¿qué te gusta?, ¿Qué prefieres?, E intentaremos no responder siempre por él /ell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Buscaremos preguntas en las que nos pueda contestar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si o 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remos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direct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con mensajes concre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uando el paciente deambula solo es importante que porte un documento que informe sobre su padecimiento del lengua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Control de caí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sl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traslados más importantes son los que van a efectuarse de la cama a la silla de ruedas y viceversa, y de ésta a una silla o sillón, al inodoro, a la bañera, al automóvi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realizar estos traslados, debemos procurar que las superficies estén a la misma altura y muy próximas entre sí: cama-silla de ruedas, silla de ruedas-sill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La vuelta a casa del paciente hemiplé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rmi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leg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 parálisis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ares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parálisis parcial de un miem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6560" y="3500280"/>
            <a:ext cx="785988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gún la región afecta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solo miembro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nopares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dos miembros de un mismo lado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emipar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iembros inferiores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arapar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tro miembros: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etrapares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yuda tras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i el paciente necesita ayuda para levantarse de la silla o la cam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l cuidador se colocará delan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o cogerá por debajo de los brazos y lo levantará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ientras el paciente hace fuerza con los pies y con uno o ambos brazos se sujetará al cuello del cuidador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hacer un traslado de pie sin ayuda de otra person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l paciente se colocará en el extremo de la silla o ca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on los pies apoyados en el suelo y el lado sano siempre por delant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 pondrá de pie y se inclinará hacia delante, apoyándose sobre los brazos de la sill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l cuerpo se girará, quedará de espaldas a la silla o cama y se dejará caer con suavid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cama debe estar a una altura correcta, para facilitar el traslado a la silla de ruedas, y debe tener un colchón dur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uede ser útil la colocación de una barra en la cabecera de la ca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sej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centrar el interé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cada actividad y no hacer varias cosas al mismo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randill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lrededor de la bañera y w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ositiv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i-resbal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el b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irar l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fomb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b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uelo para evitar tropie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l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daptada al inodoro o la bañ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p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ómoda y a ser posible, ajus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apa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 suelas de material antidesliz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tar sue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liz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ositiv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idesliza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n andador, muletas o basto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rt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nchas y fáciles de 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la casa tiene dos pisos en uno de ellos, en el que vaya a moverse, debe disponer de todo lo necesario, a menos que pueda subir y bajar de una manera senci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imine escal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necesarios o sustitúyalos por ram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ueb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no deben estor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uede ser útil escribir una lista con aquello que precise (gafas, mando de tv, periódico...) Y colocarlo a mano para que el paciente no se tenga que leva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Consejos prácticos esenciales en los trastornos de la deg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os tipos de trastorn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icultad total para deglutir: tienen que ser alimentadas por sonda (tubo especial que se introduce por la nariz o a través del abdomen hasta el estómag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emas para masticar y tragar pero pueden alimentarse normalmente, siguiendo unas recomend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íntomas de los trastornos de la deg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icultad para mast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icultad para llevar la comida hacia la fari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tención de comida en la boca o garg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lejo de la deglución altera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ecomendac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ificar la consistencia de la com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icialmente triturado y poco a poco ir cambiando la textura conforme vayan mejor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esar los líquidos con productos especiales o con maicena, papillas, etc., Puesto que, en esta enfermedad, primero se recupera la deglución de alimentos sólidos y al final la de los líqu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posición de la persona es fundamen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be estar se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mida debe darse por la parte de la boca no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veces, es conveniente bajar la barbilla para deglu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pequeñas raciones lentamente y con 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midas frías suelen estimular el reflejo de la deg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Aliment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imentos aconsej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mas espesas de ver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ré de fru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g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at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uevos revue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pas espesas de sém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ne tritu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scados su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3196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limentos que deben evitar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íquidos (agua, leche, zu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utas cru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nes no tritu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t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onda de alimentació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osición semisentada es la posición ideal; así se evitarán reflujos de la com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e limpiarse la boca varias veces al día, aunque no se coma norm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en limpiarse con cuidado las fosas nasales, sobre todo en el lado en que está insertada la son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conveniente apoyar la sonda en un lugar diferente cada día para evitar que la piel se llag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onda puede fijarse con un trozo fino de esparadra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la sonda está insertada en el abdomen debe limpiarse cada día la zona de la piel limitante con agua templada y jabón, así como las conexiones y la sonda; es conveniente poner unas gasas y tapar con un esparadrapo su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medicamentos deben triturarse por completo, ya que podrían obturar la so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necesario pasar agua por la sonda varias veces al día y siempre después de administrar medica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aparecen vómitos o tos al recibir la alimentación o diarreas muy abundantes, ¡debe consultarse al médico de inmediato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Como tratar la disfunción sex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blemas de vida sexual en el paciente con ic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uede no sentir bien o no ser consciente de una parte de su cuerp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comunicación puede ser difíc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movimientos pueden ser difíciles o torp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paciente puede tener una imagen negativa de si mism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uede haber falta de ex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emores en el paciente o en la pareja por si el sexo supone un riesgo de que se produzca un nuevo ict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sumir estos cambios conlleva tiempo y esfuerzo, pero el tiempo lleva a aceptar que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l cuerpo ha cambiado, pero sigue siendo el suy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forme se aumenta la capacidad de autocuidado y el control de la higiene personal se incrementa la autoestima, lo que hará que el paciente se sienta más atractivo, para sí mismo y para o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unica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Los temores que no se expresan pueden llevarnos a evitar los encuentros íntimos y con ello no solucionamos el problema y nos produce ansiedad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Es muy importante que el paciente hable con su pareja y que entre los dos puedan vencer sus temor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ciente hemiplé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licaciones del paciente encam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osturas anormales en las extremidad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lor en el hombro paralizad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Heridas o úlceras por apoyo prolongado (lesiones por presión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blemas venos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sejos en el paciente enc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ontrolar la posición en la ca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Realizar cambios posturales frecue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Moverles los miembros paralizad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onocer como transferirle de la cama a un sillón adecuado para iniciar la sedest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iesgo de nuevo ict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El temor a sufrir un nuevo ictus durante el acto sexual es generalmente infundad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Es normal que aumenten las pulsaciones del corazón y que la respiración sea más rápida, pero el esfuerzo que se realiza es semejante a subir dos tramos de escalera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Si ello le preocupa, consulte a su médico en su caso concret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pr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uchas veces, tras un ictus se produce un desinterés por el sexo, que puede ser debido a una depre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tros síntomas que aparecen en la depresión pueden ser: dificultad para dormir, pérdida de apetito, sentirse cansado y sin energía, pesimismo, pérdida de interés por las co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persona deprimida no se preocupa por su aspecto y le resulta difícil dar o recibir afect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ble de sus problemas. Su médico puede ayudarle con medicación antidepresiva, que es muy eficaz en muchos cas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fectos secundarios de trat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ármacos que pueden interferir con la función sexual o causar impot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hipotens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Antidepresiv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Hipolipemia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Si usted sospecha que alguna de las medicaciones dificulta su vida sexual, consulte con su médico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n ningún caso deje de tomarlas por su cuenta, ya que puede ser arriesga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ármacos especí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Los fármacos que ayudan a la erección son una opción para varones con problem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La eficacia y la seguridad del sildenafilo, tadalafilo y vardenafilo no ha sido estudiada en pacientes que han sufrido un ictus isquémico reci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Arial"/>
              </a:rPr>
              <a:t>Su uso en estos pacientes no está indicad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se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ience despacio, sin sentirse presionado, estando descansado y cuando disponga del tiempo sufic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u sentido del tacto se ha visto parcial o totalmente alterado, es mejor que su pareja se aproxime por el lado san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ocasiones, algunas zonas pueden estar tan sensibles que el simple tacto le produzca dolor o sensaciones desagradables. Indique a su pareja qué le resulta agradable y qué mol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uebe diferentes posturas, pudiendo ayudarse de almohad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uerde que hay muchas formas de mantener contactos sexuales además del co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jercicios de recuperación tras el encam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uando el paciente se levan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ntrol del equilibr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Inicio de la deambul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anipul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osteriorm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ejorar patrones de march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Subir/bajar escaleras y ramp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anipulación úti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ntrenamiento en gestos prácticos cotidian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l objetivo fundamental es procurar la reincorporación del paciente a las actividades de la vida dia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ejercicio moderado y regular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 parte de una vida sa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jora el funcionamiento del aparato cardiovascular y de los pulmones, baja los niveles de glucosa y colesterol y proporciona una sensación de biene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emás nos permite luchar contra la inmovilidad y la aparición de contracturas, logr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tar debilidades musculares, manteniendo o mejorando la fuerza muscular conseguida durante la rehabili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venir que las articulaciones se vuelvan rígidas y doloros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utocui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vitar la sobreprotección: que el paciente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rabaje por sí mismo, ¡todo lo que pueda!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timule el espíritu de superación del paciente, con gestos de cariño y aprobación cada vez que se consiga superar un nuevo re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¿Cómo tratar la espastici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pasti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mento progresivo del tono de los músc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0 y el 40% de los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arrollo gradual, manifestándose generalmente en los primeros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secuencias de la espast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nque no siempre causa molestias, puede provocar dolor y contracturas muscula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e interferir en el desarrollo de tareas de la vida diaria como el aseo, el vestido y la alimentación, y puede provocar problemas en la rehabilit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batiendo la espasti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Posturas adecuadas cuando se está en repos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Ejercicios de estiramiento y rehabilitació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Fármacos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Para mejorar el dolor y las contractura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</a:rPr>
              <a:t>Para favorecer la rehabilitació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21:04:56Z</dcterms:created>
  <dc:creator>Carlos</dc:creator>
  <dc:description/>
  <dc:language>en-US</dc:language>
  <cp:lastModifiedBy>jramirez</cp:lastModifiedBy>
  <dcterms:modified xsi:type="dcterms:W3CDTF">2012-05-07T17:52:43Z</dcterms:modified>
  <cp:revision>3</cp:revision>
  <dc:subject/>
  <dc:title>MODULO 5.</dc:title>
</cp:coreProperties>
</file>